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0C6-2BE9-46A0-8B69-D56E3981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FB6-E80C-49B1-9BCF-1541BE5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552-78C8-4020-B0F6-1C91FAD2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19F-68DC-4086-8C97-9342FFA4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AAAA-07B2-4BB7-B94C-9039B011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B8A-17CE-46BD-801E-3086F62B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906-AE6F-4F75-83E3-EB130FE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8193-5881-43C7-B281-A6D3133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DFA2-1040-4EB6-B7CC-18D07A8C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5E1-AFA0-436E-B1C3-DEA08AA1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5364-202A-42C1-AB4E-6A07707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D4C-D2AC-4F2D-808B-07BBFBFF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7257-1895-49D8-A75D-8574CAB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CD79-D6D0-4D66-B16B-6F1FE11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01D5-D9E9-48EA-ADB6-3378A05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8351-3192-4A2B-BC52-9E0023EE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67A5-2CF7-4395-8B16-FEC96F5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646-39A1-4F4F-B59F-D970AB6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73E-5BB6-4B01-A512-965B423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5C6-E0BD-4A30-9B81-E7FE522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440-940F-467D-BBB9-34312C72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99F-57A4-4614-AA7A-6DBA815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1B2-EFB3-440A-998C-95BBB07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2B0-AA32-41B4-9DBB-2A07662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171-0B63-4AE4-9FF4-883DFCBE39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2042-0186-43A8-9F71-14B7A997C9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les-hs.k12.il.us/rutgle/peanut_06.pdf" TargetMode="External"/><Relationship Id="rId2" Type="http://schemas.openxmlformats.org/officeDocument/2006/relationships/hyperlink" Target="http://www.niles-hs.k12.il.us/rutgle/peanut_06.pdf" TargetMode="External"/><Relationship Id="rId3" Type="http://schemas.openxmlformats.org/officeDocument/2006/relationships/hyperlink" Target="http://www.niles-hs.k12.il.us/rutgle/peanut_06.pdf" TargetMode="External"/><Relationship Id="rId4" Type="http://schemas.openxmlformats.org/officeDocument/2006/relationships/hyperlink" Target="http://www.niles-hs.k12.il.us/rutgle/peanut_06.pdf" TargetMode="External"/><Relationship Id="rId5" Type="http://schemas.openxmlformats.org/officeDocument/2006/relationships/hyperlink" Target="http://www.niles-hs.k12.il.us/rutgle/mandmpeanutbutter_06.pdf" TargetMode="External"/><Relationship Id="rId6" Type="http://schemas.openxmlformats.org/officeDocument/2006/relationships/hyperlink" Target="http://www.niles-hs.k12.il.us/rutgle/mandmpeanutbutter_06.pdf" TargetMode="External"/><Relationship Id="rId7" Type="http://schemas.openxmlformats.org/officeDocument/2006/relationships/hyperlink" Target="http://www.niles-hs.k12.il.us/rutgle/mandmpeanutbutter_06.pdf" TargetMode="External"/><Relationship Id="rId8" Type="http://schemas.openxmlformats.org/officeDocument/2006/relationships/hyperlink" Target="http://www.niles-hs.k12.il.us/rutgle/mandmpeanutbutter_06.pdf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i Square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hi square analysis allows you to use statistics to determine if your data “good”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ur fruit fly labs we are using laws of probability to determine possible outcomes for genetic cro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ill we know if our fruit fly data is “good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Conduct the Analysi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562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the hypothesis value take 10009/16 = 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071800"/>
          <a:ext cx="8229600" cy="31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71800"/>
                    <a:ext cx="822960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0" t="0" r="51165" b="0"/>
          <a:stretch/>
        </p:blipFill>
        <p:spPr>
          <a:xfrm>
            <a:off x="2743200" y="304920"/>
            <a:ext cx="2819520" cy="140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chi square formula compute the chi square total for this cro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610 - 5630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5630 = .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81 - 1877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96 - 1877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622 - 626)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 626 = .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.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degrees of freed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0" r="51165" b="0"/>
          <a:stretch/>
        </p:blipFill>
        <p:spPr>
          <a:xfrm>
            <a:off x="2819520" y="304920"/>
            <a:ext cx="2819160" cy="140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the chi square formula compute the chi square total for this cro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610 - 5630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5630 = .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81 - 1877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896 - 1877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1877 = .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622 - 626)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 626 = .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.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degrees of freedom?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H="1" flipV="1">
            <a:off x="1295280" y="1676160"/>
            <a:ext cx="423072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1828800"/>
            <a:ext cx="1598760" cy="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0240" y="16826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27880" y="1866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4440" y="1277280"/>
            <a:ext cx="270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HI-SQUARE DISTRIBUTION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5120" y="127800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2057400"/>
          <a:ext cx="8213760" cy="4510080"/>
        </p:xfrm>
        <a:graphic>
          <a:graphicData uri="http://schemas.openxmlformats.org/drawingml/2006/table">
            <a:tbl>
              <a:tblPr/>
              <a:tblGrid>
                <a:gridCol w="1067040"/>
                <a:gridCol w="680760"/>
                <a:gridCol w="584280"/>
                <a:gridCol w="584280"/>
                <a:gridCol w="584280"/>
                <a:gridCol w="584280"/>
                <a:gridCol w="680760"/>
                <a:gridCol w="681120"/>
                <a:gridCol w="681120"/>
                <a:gridCol w="723960"/>
                <a:gridCol w="680760"/>
                <a:gridCol w="681120"/>
              </a:tblGrid>
              <a:tr h="10303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pt Hypothesi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ject Hypothes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bability (p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grees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eedo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reporting chi square data use the following formula sentenc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degrees of freedom, my chi square value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gives me a p value betwe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%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%, I theref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my null hypoth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entence would go in the “reults” section of your formal la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explanation of the significance of this data would go in the “discussion” section of the formal la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this statistic up on the chi square distribution table tells us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 value read off the table places our chi square number of .30  close to .95 or 9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means that 95% of the time when our observed data is this close to our expected data, this deviation is due to random ch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therefore accept our null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critical value at which we would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ree degrees of freedom this value for our chi square is &gt; 7.8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our chi square value was 8.0 with 4 degrees of freedom, do we accept or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pt, since the critical value is &gt;9.48 with 4 degrees of free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use the chi square test in a different sort of la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were testing the effect of light on plant growth, how could the chi square analysis be u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is case our experimental group is plants grown in the dark and the control plants are grown in the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your expected data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 plants grown in the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would your observed group b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s grown in the da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pect to accept or reject the null hypothes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 &amp; m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eanu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m&amp;m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 data from Mars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Peanut butter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m&amp;m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 data from Mars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formula is us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201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5800" y="3276720"/>
            <a:ext cx="746748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hypothesis is supported by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claiming that mating is random and so is segregation and independent assort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hypothesis is not supported b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seeing that the deviation between observed and expected is very far apart…something non-random must be occurring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-9040320"/>
            <a:ext cx="380880" cy="10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st statistic is compared to a theoretical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der to use this distribution properly you need to determine the degrees of freed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grees of freedom is the number of phenotypic possibilities in your cross minus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level of significance read from the table is greater than .05 or 5% then your hypothesis is accepted and the data is use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ypothesis is termed the null hypothesis which states that there is no substantial statistical deviation between observed and expecte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t’s look at a fruit fly cro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3400" y="2362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657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dy, ey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191120" y="51814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19320" y="5943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: all w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228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 x F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066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828800" y="4419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362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181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5029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sis of the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 numbers are in, you have to determine the cross that you were us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expected outcome of this cros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/16 wild type: 3/16 normal body eyeless: 3/16 black body wild eyes: 1/16 black body eye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w Conduct the Analysi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905120"/>
          <a:ext cx="81532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81532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609480" y="5562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ute the hypothesis value take 10009/16 = 6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8:21:15Z</dcterms:created>
  <dc:creator>Ruth Gleicher</dc:creator>
  <dc:description/>
  <dc:language>en-US</dc:language>
  <cp:lastModifiedBy>Kimberly Area School District</cp:lastModifiedBy>
  <dcterms:modified xsi:type="dcterms:W3CDTF">2008-12-17T15:36:44Z</dcterms:modified>
  <cp:revision>10</cp:revision>
  <dc:subject/>
  <dc:title>Chi Square Analysis</dc:title>
</cp:coreProperties>
</file>